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164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164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D2B9-5CAB-4478-B252-01A8A20825A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608C-1053-4F75-8873-4EC4D67FFD0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3572-8CB4-4B79-9247-251EAFEB732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1640" y="8778960"/>
            <a:ext cx="3013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7CFF-EACB-45E4-99C0-59D009B6759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4389120"/>
            <a:ext cx="510084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479-DFCC-4815-9979-A7175895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E4B-EAC4-416F-B4D2-4B89869D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EF2-0C42-44C1-A2C4-A58FB8B7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C79-D27C-4826-80B6-E2188438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474-0BBB-4B33-96BE-452571A9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488-46BC-4A3B-9244-81061551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DBE-0ED4-4963-98A8-5523A23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FB9-D647-4A1F-8603-A21C945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C35-940E-4FFC-A1C2-DC70E16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8B4-4CB5-4108-8876-A46A5AE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F67-77D4-49CC-9554-15AED59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6A4-2C90-4FC9-9EB5-810D59A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2F7-EF8A-4D50-B9F9-0DB1DC36F54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olensblogs.com/psychcompanion/digres/#Memory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ulti-Store Model of Memory (MSM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tes 2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___,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676520" y="990720"/>
          <a:ext cx="6370560" cy="4627440"/>
        </p:xfrm>
        <a:graphic>
          <a:graphicData uri="http://schemas.openxmlformats.org/drawingml/2006/table">
            <a:tbl>
              <a:tblPr/>
              <a:tblGrid>
                <a:gridCol w="1592280"/>
                <a:gridCol w="1593720"/>
                <a:gridCol w="1592280"/>
                <a:gridCol w="15922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50920" y="260280"/>
            <a:ext cx="8637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Baskerville Old Face"/>
              </a:rPr>
              <a:t>How many letters can you recall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This was based on an experiment by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Sperling (1960):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Presented a grid of letters for less than a second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People recalled on average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4 letter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Although, when Sperling used “partial report” technique…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showed that iconic memory held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up to 10 items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But decays before we can report them all </a:t>
            </a:r>
            <a:r>
              <a:rPr b="1" lang="en-GB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Duration: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Info decays within </a:t>
            </a:r>
            <a:r>
              <a:rPr b="1" lang="en-GB" sz="3000" spc="-1" strike="noStrike">
                <a:solidFill>
                  <a:srgbClr val="fd032d"/>
                </a:solidFill>
                <a:latin typeface="Garamond"/>
              </a:rPr>
              <a:t>about 2 secs (or less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Short Term Mem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76000" y="4005000"/>
            <a:ext cx="5762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8064a2"/>
                </a:solidFill>
                <a:latin typeface="Baskerville Old Face"/>
              </a:rPr>
              <a:t>Encoding &amp; Capac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6">
            <a:hlinkClick r:id="" action="ppaction://hlinkshowjump?jump=nextslide"/>
          </p:cNvPr>
          <p:cNvSpPr/>
          <p:nvPr/>
        </p:nvSpPr>
        <p:spPr>
          <a:xfrm>
            <a:off x="822960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114960" y="611496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ck Here to Continu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6"/>
          <p:cNvCxnSpPr/>
          <p:nvPr/>
        </p:nvCxnSpPr>
        <p:spPr>
          <a:xfrm flipV="1">
            <a:off x="3995280" y="1915560"/>
            <a:ext cx="505800" cy="208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Activity 1: Capacity of ST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484280"/>
            <a:ext cx="87854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You will need a pen/pencil and a piece of scrap pap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When you go to the next page, you will be presented with a sequence of numbers, which will appear in the center of the screen at one second interv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Try to memorize the numbers 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in sequence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as they are presented, but </a:t>
            </a:r>
            <a:r>
              <a:rPr b="1" lang="en-GB" sz="3000" spc="-1" strike="noStrike" u="sng">
                <a:solidFill>
                  <a:srgbClr val="fd032d"/>
                </a:solidFill>
                <a:uFillTx/>
                <a:latin typeface="Garamond"/>
              </a:rPr>
              <a:t>DO NOT WRITE ANYTHING DOW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When you see the word </a:t>
            </a:r>
            <a:r>
              <a:rPr b="0" lang="en-GB" sz="3000" spc="-1" strike="noStrike">
                <a:solidFill>
                  <a:srgbClr val="fd032d"/>
                </a:solidFill>
                <a:latin typeface="Garamond"/>
              </a:rPr>
              <a:t>“NOW”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appear, write the numbers down </a:t>
            </a:r>
            <a:r>
              <a:rPr b="1" lang="en-GB" sz="3000" spc="-1" strike="noStrike">
                <a:solidFill>
                  <a:srgbClr val="000000"/>
                </a:solidFill>
                <a:latin typeface="Garamond"/>
              </a:rPr>
              <a:t>in the same order as they were presented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(serial recal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>
            <a:hlinkClick r:id="" action="ppaction://hlinkshowjump?jump=previousslide"/>
          </p:cNvPr>
          <p:cNvSpPr/>
          <p:nvPr/>
        </p:nvSpPr>
        <p:spPr>
          <a:xfrm>
            <a:off x="1295280" y="60325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5"/>
          <p:cNvSpPr/>
          <p:nvPr/>
        </p:nvSpPr>
        <p:spPr>
          <a:xfrm>
            <a:off x="4829040" y="2971800"/>
            <a:ext cx="366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76840" y="2971800"/>
            <a:ext cx="473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788000" y="2971800"/>
            <a:ext cx="45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4784760" y="297180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4807080" y="2971800"/>
            <a:ext cx="41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4799160" y="2971800"/>
            <a:ext cx="42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784760" y="297180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800600" y="2971800"/>
            <a:ext cx="425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4000680" y="3708360"/>
            <a:ext cx="198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d032d"/>
                </a:solidFill>
                <a:latin typeface="Comic Sans MS"/>
              </a:rPr>
              <a:t>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4822920" y="2971800"/>
            <a:ext cx="380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6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Baskerville Old Face"/>
              </a:rPr>
              <a:t>How did you do? - see below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371240"/>
            <a:ext cx="87854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Calibri"/>
              </a:rPr>
              <a:t>5 7 4 8 3 1 9 6 2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800" spc="-1" strike="noStrike">
                <a:solidFill>
                  <a:srgbClr val="000000"/>
                </a:solidFill>
                <a:latin typeface="Calibri"/>
              </a:rPr>
              <a:t>Miller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Calibri"/>
              </a:rPr>
              <a:t>(1956)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: the STM can hold </a:t>
            </a:r>
            <a:r>
              <a:rPr b="1" lang="en-GB" sz="3800" spc="-1" strike="noStrike">
                <a:solidFill>
                  <a:srgbClr val="c0504d"/>
                </a:solidFill>
                <a:latin typeface="Calibri"/>
              </a:rPr>
              <a:t>‘the magic number seven, plus or minus two’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On average, the capacity of STM is between 5 and 9 items of information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Activity 2: Extending STM Capac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99840"/>
            <a:ext cx="8642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When you go to the next page, you will be presented with a line of letters across the scre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Memorise as many of the letters as you can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but do not write anything until the word </a:t>
            </a:r>
            <a:r>
              <a:rPr b="0" lang="en-GB" sz="3200" spc="-1" strike="noStrike">
                <a:solidFill>
                  <a:srgbClr val="fd032d"/>
                </a:solidFill>
                <a:latin typeface="Garamond"/>
              </a:rPr>
              <a:t>NOW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app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When you see the word </a:t>
            </a:r>
            <a:r>
              <a:rPr b="0" lang="en-GB" sz="3200" spc="-1" strike="noStrike">
                <a:solidFill>
                  <a:srgbClr val="fd032d"/>
                </a:solidFill>
                <a:latin typeface="Garamond"/>
              </a:rPr>
              <a:t>NOW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appear on the screen, write down on your paper as many of the letters as you can remember,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in the same order as they were presented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066680" y="2895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 C E B T E C G C S E G N V Q A 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000680" y="3708360"/>
            <a:ext cx="198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d032d"/>
                </a:solidFill>
                <a:latin typeface="Comic Sans MS"/>
              </a:rPr>
              <a:t>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26920" y="2637000"/>
            <a:ext cx="8077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Could you remember more this ti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Garamond"/>
              </a:rPr>
              <a:t>Now try it again!!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5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065240" y="2895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CE   BTEC   GCSE   GNVQ   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98880" y="3708360"/>
            <a:ext cx="198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d032d"/>
                </a:solidFill>
                <a:latin typeface="Comic Sans MS"/>
              </a:rPr>
              <a:t>NOW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066680" y="2590920"/>
            <a:ext cx="80773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9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3976560" cy="4106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Baskerville Old Face"/>
              </a:rPr>
              <a:t>What’s a “model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413000"/>
            <a:ext cx="8780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Not a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exact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copy, but a representation of some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Helps us understand how something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Garamond"/>
              </a:rPr>
              <a:t>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MCj04242320000[1]"/>
          <p:cNvPicPr/>
          <p:nvPr/>
        </p:nvPicPr>
        <p:blipFill>
          <a:blip r:embed="rId2"/>
          <a:stretch/>
        </p:blipFill>
        <p:spPr>
          <a:xfrm>
            <a:off x="1143000" y="435780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MPj04387460000[1]"/>
          <p:cNvPicPr/>
          <p:nvPr/>
        </p:nvPicPr>
        <p:blipFill>
          <a:blip r:embed="rId3"/>
          <a:stretch/>
        </p:blipFill>
        <p:spPr>
          <a:xfrm>
            <a:off x="6500880" y="2571840"/>
            <a:ext cx="232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probably did better this time - Answers below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ff0000"/>
                </a:solidFill>
                <a:latin typeface="Calibri"/>
              </a:rPr>
              <a:t>GCE  BTEC  GCSE  GNVQ  AS </a:t>
            </a:r>
            <a:br>
              <a:rPr sz="27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y might this be? – (apart from having seen the stimulus material twice, an example of th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actice eff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915920"/>
            <a:ext cx="873612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Miller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1956) found that the capacity of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T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ould be considerably increased by combining/organising separate ‘bits’ of information, e.g. letters or digits, into larger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un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hun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nvolves making the info more meaningful, through organising it in line with existing knowledge from your LTM - in this case, of abbreviations for qualific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">
            <a:hlinkClick r:id="" action="ppaction://hlinkshowjump?jump=nextslide"/>
          </p:cNvPr>
          <p:cNvSpPr/>
          <p:nvPr/>
        </p:nvSpPr>
        <p:spPr>
          <a:xfrm>
            <a:off x="8226360" y="6032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Short Term Mem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76000" y="4005000"/>
            <a:ext cx="5762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8064a2"/>
                </a:solidFill>
                <a:latin typeface="Baskerville Old Face"/>
              </a:rPr>
              <a:t>Du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6"/>
          <p:cNvCxnSpPr/>
          <p:nvPr/>
        </p:nvCxnSpPr>
        <p:spPr>
          <a:xfrm flipV="1">
            <a:off x="3995280" y="1915560"/>
            <a:ext cx="505800" cy="208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588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Baskerville Old Face"/>
              </a:rPr>
              <a:t>How long can you retain a new phone number before you have to write it down?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2920" y="1785960"/>
            <a:ext cx="8786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000" spc="-1" strike="noStrike">
                <a:solidFill>
                  <a:srgbClr val="1f497d"/>
                </a:solidFill>
                <a:latin typeface="Garamond"/>
              </a:rPr>
              <a:t>…</a:t>
            </a:r>
            <a:r>
              <a:rPr b="0" i="1" lang="en-GB" sz="3000" spc="-1" strike="noStrike">
                <a:solidFill>
                  <a:srgbClr val="1f497d"/>
                </a:solidFill>
                <a:latin typeface="Baskerville Old Face"/>
              </a:rPr>
              <a:t>if you </a:t>
            </a:r>
            <a:r>
              <a:rPr b="1" i="1" lang="en-GB" sz="3000" spc="-1" strike="noStrike" u="sng">
                <a:solidFill>
                  <a:srgbClr val="1f497d"/>
                </a:solidFill>
                <a:uFillTx/>
                <a:latin typeface="Baskerville Old Face"/>
              </a:rPr>
              <a:t>didn’t</a:t>
            </a:r>
            <a:r>
              <a:rPr b="0" i="1" lang="en-GB" sz="3000" spc="-1" strike="noStrike">
                <a:solidFill>
                  <a:srgbClr val="1f497d"/>
                </a:solidFill>
                <a:latin typeface="Baskerville Old Face"/>
              </a:rPr>
              <a:t> rehearse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The duration for which STM can retain info is </a:t>
            </a:r>
            <a:r>
              <a:rPr b="1" lang="en-GB" sz="3000" spc="-1" strike="noStrike">
                <a:solidFill>
                  <a:srgbClr val="fd032d"/>
                </a:solidFill>
                <a:latin typeface="Baskerville Old Face"/>
              </a:rPr>
              <a:t>temporary</a:t>
            </a: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 – a very short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Some findings suggest only </a:t>
            </a:r>
            <a:r>
              <a:rPr b="1" lang="en-GB" sz="3000" spc="-1" strike="noStrike">
                <a:solidFill>
                  <a:srgbClr val="fd032d"/>
                </a:solidFill>
                <a:latin typeface="Baskerville Old Face"/>
              </a:rPr>
              <a:t>a few seconds</a:t>
            </a:r>
            <a:r>
              <a:rPr b="0" lang="en-GB" sz="3000" spc="-1" strike="noStrike">
                <a:solidFill>
                  <a:srgbClr val="fd032d"/>
                </a:solidFill>
                <a:latin typeface="Baskerville Old Face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before it fades/decays (unless we </a:t>
            </a:r>
            <a:r>
              <a:rPr b="1" i="1" lang="en-GB" sz="3000" spc="-1" strike="noStrike">
                <a:solidFill>
                  <a:srgbClr val="000000"/>
                </a:solidFill>
                <a:latin typeface="Baskerville Old Face"/>
              </a:rPr>
              <a:t>rehearse</a:t>
            </a:r>
            <a:r>
              <a:rPr b="0" lang="en-GB" sz="3000" spc="-1" strike="noStrike">
                <a:solidFill>
                  <a:srgbClr val="000000"/>
                </a:solidFill>
                <a:latin typeface="Baskerville Old Face"/>
              </a:rPr>
              <a:t> i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Activity: </a:t>
            </a:r>
            <a:r>
              <a:rPr b="1" lang="en-GB" sz="3200" spc="-1" strike="noStrike">
                <a:solidFill>
                  <a:srgbClr val="000000"/>
                </a:solidFill>
                <a:latin typeface="Baskerville Old Face"/>
              </a:rPr>
              <a:t>duration of 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1499760"/>
            <a:ext cx="8588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This next experiment was first carried out by married couple </a:t>
            </a:r>
            <a:r>
              <a:rPr b="1" lang="en-GB" sz="2700" spc="-1" strike="noStrike">
                <a:solidFill>
                  <a:srgbClr val="000000"/>
                </a:solidFill>
                <a:latin typeface="Baskerville Old Face"/>
              </a:rPr>
              <a:t>Peterson &amp; Peterson (195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Got students to recall combinations of 3 letters </a:t>
            </a:r>
            <a:r>
              <a:rPr b="1" i="1" lang="en-GB" sz="2700" spc="-1" strike="noStrike">
                <a:solidFill>
                  <a:srgbClr val="000000"/>
                </a:solidFill>
                <a:latin typeface="Baskerville Old Face"/>
              </a:rPr>
              <a:t>(</a:t>
            </a:r>
            <a:r>
              <a:rPr b="1" i="1" lang="en-GB" sz="2700" spc="-1" strike="noStrike">
                <a:solidFill>
                  <a:srgbClr val="fd032d"/>
                </a:solidFill>
                <a:latin typeface="Baskerville Old Face"/>
              </a:rPr>
              <a:t>trigrams</a:t>
            </a:r>
            <a:r>
              <a:rPr b="1" i="1" lang="en-GB" sz="2700" spc="-1" strike="noStrike">
                <a:solidFill>
                  <a:srgbClr val="000000"/>
                </a:solidFill>
                <a:latin typeface="Baskerville Old Face"/>
              </a:rPr>
              <a:t>),</a:t>
            </a: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 after longer and longer interv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During the intervals, students were prevented from rehearsing by a counting task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On the next screen, you will see </a:t>
            </a:r>
            <a:r>
              <a:rPr b="1" lang="en-GB" sz="2700" spc="-1" strike="noStrike">
                <a:solidFill>
                  <a:srgbClr val="fd032d"/>
                </a:solidFill>
                <a:latin typeface="Baskerville Old Face"/>
              </a:rPr>
              <a:t>a trigram </a:t>
            </a: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for a few secon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A 3-digit number will then appear in its place. </a:t>
            </a:r>
            <a:r>
              <a:rPr b="1" lang="en-GB" sz="2700" spc="-1" strike="noStrike">
                <a:solidFill>
                  <a:srgbClr val="fd032d"/>
                </a:solidFill>
                <a:latin typeface="Baskerville Old Face"/>
              </a:rPr>
              <a:t>When this happens, start counting backwards in 3’s </a:t>
            </a:r>
            <a:r>
              <a:rPr b="0" lang="en-GB" sz="2700" spc="-1" strike="noStrike">
                <a:solidFill>
                  <a:srgbClr val="000000"/>
                </a:solidFill>
                <a:latin typeface="Baskerville Old Face"/>
              </a:rPr>
              <a:t>from the number until you are told to sto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Baskerville Old Face"/>
              </a:rPr>
              <a:t>Pens down….</a:t>
            </a:r>
            <a:r>
              <a:rPr b="1" i="1" lang="en-GB" sz="2700" spc="-1" strike="noStrike">
                <a:solidFill>
                  <a:srgbClr val="000000"/>
                </a:solidFill>
                <a:latin typeface="Baskerville Old Face"/>
              </a:rPr>
              <a:t>read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627280" y="2708280"/>
            <a:ext cx="4406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V   J    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627280" y="2637000"/>
            <a:ext cx="453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30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556000" y="2708280"/>
            <a:ext cx="4406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X   G   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56000" y="2708280"/>
            <a:ext cx="453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4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700360" y="2852640"/>
            <a:ext cx="4406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   Z   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700360" y="2852640"/>
            <a:ext cx="453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short-2"/>
          <p:cNvPicPr/>
          <p:nvPr/>
        </p:nvPicPr>
        <p:blipFill>
          <a:blip r:embed="rId1"/>
          <a:stretch/>
        </p:blipFill>
        <p:spPr>
          <a:xfrm>
            <a:off x="1692360" y="1125360"/>
            <a:ext cx="6145200" cy="4829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116000" y="333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d032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d032d"/>
                </a:solidFill>
                <a:latin typeface="Arial"/>
              </a:rPr>
              <a:t>Their findings suggest that our STM fades in under a half a minute if we are not rehearsing 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516720" y="1773360"/>
            <a:ext cx="2305080" cy="1800000"/>
          </a:xfrm>
          <a:prstGeom prst="wedgeRectCallout">
            <a:avLst>
              <a:gd name="adj1" fmla="val -54685"/>
              <a:gd name="adj2" fmla="val 9629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18secs, fewer than 10% recalled correct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179280" y="3068640"/>
            <a:ext cx="2305080" cy="1800360"/>
          </a:xfrm>
          <a:prstGeom prst="wedgeRectCallout">
            <a:avLst>
              <a:gd name="adj1" fmla="val 107921"/>
              <a:gd name="adj2" fmla="val -838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only 3secs, 80% recalled correct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203640" y="5084640"/>
            <a:ext cx="3313080" cy="158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ecall got progressiv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orse as the del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grew longer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Baskerville Old Face"/>
              </a:rPr>
              <a:t>Long-term Memo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800" spc="-1" strike="noStrike">
                <a:solidFill>
                  <a:srgbClr val="8064a2"/>
                </a:solidFill>
                <a:latin typeface="Baskerville Old Face"/>
              </a:rPr>
              <a:t>Encoding, capacity, dura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2"/>
          <p:cNvCxnSpPr/>
          <p:nvPr/>
        </p:nvCxnSpPr>
        <p:spPr>
          <a:xfrm flipV="1">
            <a:off x="3995280" y="1988640"/>
            <a:ext cx="3241080" cy="2232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4200" spc="-1" strike="noStrike">
                <a:solidFill>
                  <a:srgbClr val="000000"/>
                </a:solidFill>
                <a:latin typeface="Calibri"/>
              </a:rPr>
              <a:t>Easy!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 u="sng">
                <a:solidFill>
                  <a:srgbClr val="660066"/>
                </a:solidFill>
                <a:uFillTx/>
                <a:latin typeface="Calibri"/>
              </a:rPr>
              <a:t>Capacity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= potentially unlimited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 u="sng">
                <a:solidFill>
                  <a:srgbClr val="660066"/>
                </a:solidFill>
                <a:uFillTx/>
                <a:latin typeface="Calibri"/>
              </a:rPr>
              <a:t>Duration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= anything up to a lifetime. (minutes to yea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Difficult to test </a:t>
            </a:r>
            <a:r>
              <a:rPr b="0" lang="en-GB" sz="3400" spc="-1" strike="noStrike" u="sng">
                <a:solidFill>
                  <a:srgbClr val="000000"/>
                </a:solidFill>
                <a:uFillTx/>
                <a:latin typeface="Calibri"/>
              </a:rPr>
              <a:t>exact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duration, but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Bahrick </a:t>
            </a:r>
            <a:r>
              <a:rPr b="1" i="1" lang="en-GB" sz="3400" spc="-1" strike="noStrike">
                <a:solidFill>
                  <a:srgbClr val="000000"/>
                </a:solidFill>
                <a:latin typeface="Calibri"/>
              </a:rPr>
              <a:t>et al. </a:t>
            </a: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(1975)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tested US gradu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Shown classmate photos years l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d032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90% accuracy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 for remembering faces &amp; names </a:t>
            </a: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34 yrs after gradu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Declined </a:t>
            </a: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after 48yrs</a:t>
            </a: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, particularly for </a:t>
            </a:r>
            <a:r>
              <a:rPr b="1" lang="en-GB" sz="3400" spc="-1" strike="noStrike">
                <a:solidFill>
                  <a:srgbClr val="fd032d"/>
                </a:solidFill>
                <a:latin typeface="Calibri"/>
              </a:rPr>
              <a:t>faces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66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 u="sng">
                <a:solidFill>
                  <a:srgbClr val="660066"/>
                </a:solidFill>
                <a:uFillTx/>
                <a:latin typeface="Calibri"/>
              </a:rPr>
              <a:t>Encoding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= It’s meaning-base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Multi-Store Model (MSM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original”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by Atkinson &amp; Shiffrin (196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not a single memory stor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mory is a linear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684360" y="449280"/>
            <a:ext cx="845964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826920" y="620640"/>
            <a:ext cx="367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The 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Baskerville Old Face"/>
                <a:hlinkClick r:id="rId2"/>
              </a:rPr>
              <a:t>Multi-Store Model </a:t>
            </a:r>
            <a:r>
              <a:rPr b="1" lang="en-GB" sz="4000" spc="-1" strike="noStrike">
                <a:solidFill>
                  <a:srgbClr val="000000"/>
                </a:solidFill>
                <a:latin typeface="Baskerville Old Face"/>
              </a:rPr>
              <a:t>of Mem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78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askerville Old Face"/>
              </a:rPr>
              <a:t>Key Features of the M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413000"/>
            <a:ext cx="8491320" cy="446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1" i="1" lang="en-GB" sz="3200" spc="-1" strike="noStrike">
                <a:solidFill>
                  <a:srgbClr val="ffffff"/>
                </a:solidFill>
                <a:latin typeface="Garamond"/>
              </a:rPr>
              <a:t>different types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of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odel describes these as “memory stor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M (sensory memory), STM (short-term memory), &amp; LTM (long-term mem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y stimulus you come across has been in </a:t>
            </a:r>
            <a:r>
              <a:rPr b="1" i="1" lang="en-GB" sz="3200" spc="-1" strike="noStrike">
                <a:solidFill>
                  <a:srgbClr val="ffffff"/>
                </a:solidFill>
                <a:latin typeface="Garamond"/>
              </a:rPr>
              <a:t>one or more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of these stores – </a:t>
            </a:r>
            <a:r>
              <a:rPr b="1" i="1" lang="en-GB" sz="3200" spc="-1" strike="noStrike">
                <a:solidFill>
                  <a:srgbClr val="ffffff"/>
                </a:solidFill>
                <a:latin typeface="Garamond"/>
              </a:rPr>
              <a:t>in this sequ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ach store retains a different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mount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of info, in a different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way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, and for a different length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3132000" y="5445000"/>
            <a:ext cx="2016360" cy="1197000"/>
          </a:xfrm>
          <a:prstGeom prst="wedgeRectCallout">
            <a:avLst>
              <a:gd name="adj1" fmla="val -129370"/>
              <a:gd name="adj2" fmla="val -2594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URATION”: how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ng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this store can retain info f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6804000" y="5516640"/>
            <a:ext cx="2016000" cy="1197000"/>
          </a:xfrm>
          <a:prstGeom prst="wedgeRectCallout">
            <a:avLst>
              <a:gd name="adj1" fmla="val -213041"/>
              <a:gd name="adj2" fmla="val -793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CODING”: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rm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in which the memory is retaine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307280" y="357120"/>
            <a:ext cx="1836720" cy="1197000"/>
          </a:xfrm>
          <a:prstGeom prst="wedgeRectCallout">
            <a:avLst>
              <a:gd name="adj1" fmla="val -80305"/>
              <a:gd name="adj2" fmla="val 3052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PACITY”: how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info this store can reta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620640"/>
            <a:ext cx="8569080" cy="5832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If we remember something depends on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Our </a:t>
            </a:r>
            <a:r>
              <a:rPr b="1" lang="en-GB" sz="3500" spc="-1" strike="noStrike" u="sng">
                <a:solidFill>
                  <a:srgbClr val="fd032d"/>
                </a:solidFill>
                <a:uFillTx/>
                <a:latin typeface="Garamond"/>
              </a:rPr>
              <a:t>attention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 to i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This gets it from the SM to the ST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If we </a:t>
            </a:r>
            <a:r>
              <a:rPr b="1" lang="en-GB" sz="3500" spc="-1" strike="noStrike" u="sng">
                <a:solidFill>
                  <a:srgbClr val="fd032d"/>
                </a:solidFill>
                <a:uFillTx/>
                <a:latin typeface="Garamond"/>
              </a:rPr>
              <a:t>rehearse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 i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500" spc="-1" strike="noStrike">
                <a:solidFill>
                  <a:srgbClr val="ffff00"/>
                </a:solidFill>
                <a:latin typeface="Garamond"/>
              </a:rPr>
              <a:t>Maintenance rehearsal 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keeps it in our ST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500" spc="-1" strike="noStrike">
                <a:solidFill>
                  <a:srgbClr val="ffff00"/>
                </a:solidFill>
                <a:latin typeface="Garamond"/>
              </a:rPr>
              <a:t>Elaborative rehearsal</a:t>
            </a:r>
            <a:r>
              <a:rPr b="1" lang="en-GB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3500" spc="-1" strike="noStrike">
                <a:solidFill>
                  <a:srgbClr val="ffffff"/>
                </a:solidFill>
                <a:latin typeface="Garamond"/>
              </a:rPr>
              <a:t>can get it to our LT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Baskerville Old Face"/>
              </a:rPr>
              <a:t>Sensory Memor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800" spc="-1" strike="noStrike">
                <a:solidFill>
                  <a:srgbClr val="8064a2"/>
                </a:solidFill>
                <a:latin typeface="Baskerville Old Face"/>
              </a:rPr>
              <a:t>Encod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folensblogs.com/psychcompanion/blog/wp-content/uploads/2008/03/page_81.jpg"/>
          <p:cNvPicPr/>
          <p:nvPr/>
        </p:nvPicPr>
        <p:blipFill>
          <a:blip r:embed="rId1"/>
          <a:stretch/>
        </p:blipFill>
        <p:spPr>
          <a:xfrm>
            <a:off x="324000" y="-892080"/>
            <a:ext cx="8459640" cy="4537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2"/>
          <p:cNvCxnSpPr/>
          <p:nvPr/>
        </p:nvCxnSpPr>
        <p:spPr>
          <a:xfrm flipH="1" flipV="1">
            <a:off x="2842920" y="1988640"/>
            <a:ext cx="1152720" cy="2232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enses1"/>
          <p:cNvPicPr/>
          <p:nvPr/>
        </p:nvPicPr>
        <p:blipFill>
          <a:blip r:embed="rId1"/>
          <a:stretch/>
        </p:blipFill>
        <p:spPr>
          <a:xfrm>
            <a:off x="2700360" y="1628640"/>
            <a:ext cx="424332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79280" y="333360"/>
            <a:ext cx="870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Garamond"/>
              </a:rPr>
              <a:t>Sensory Memory (SM) takes info from one of the </a:t>
            </a:r>
            <a:r>
              <a:rPr b="1" lang="en-GB" sz="3500" spc="-1" strike="noStrike">
                <a:solidFill>
                  <a:srgbClr val="fd032d"/>
                </a:solidFill>
                <a:latin typeface="Garamond"/>
              </a:rPr>
              <a:t>sense organs</a:t>
            </a:r>
            <a:r>
              <a:rPr b="1" lang="en-GB" sz="3500" spc="-1" strike="noStrike">
                <a:solidFill>
                  <a:srgbClr val="000000"/>
                </a:solidFill>
                <a:latin typeface="Garamond"/>
              </a:rPr>
              <a:t> and holds it in that same for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324000" y="2276640"/>
            <a:ext cx="2197080" cy="1873080"/>
          </a:xfrm>
          <a:prstGeom prst="wedgeRectCallout">
            <a:avLst>
              <a:gd name="adj1" fmla="val 100648"/>
              <a:gd name="adj2" fmla="val -5906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ICONIC MEMORY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”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sual info from the eyes –things you SEE. Stored as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7093080" y="1557360"/>
            <a:ext cx="1836720" cy="2016000"/>
          </a:xfrm>
          <a:prstGeom prst="wedgeRectCallout">
            <a:avLst>
              <a:gd name="adj1" fmla="val -109032"/>
              <a:gd name="adj2" fmla="val -1495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ECHOIC MEMORY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”: auditory input from the ears – things you HEAR. Stored as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457200"/>
            <a:ext cx="87663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Baskerville Old Face"/>
                <a:ea typeface="Baskerville Old Face"/>
              </a:rPr>
              <a:t>Sensory Memory: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200" spc="-1" strike="noStrike">
                <a:solidFill>
                  <a:srgbClr val="8064a2"/>
                </a:solidFill>
                <a:latin typeface="Baskerville Old Face"/>
                <a:ea typeface="Baskerville Old Face"/>
              </a:rPr>
              <a:t>Capacity &amp; Duration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981080"/>
            <a:ext cx="862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Garamond"/>
              </a:rPr>
              <a:t>The next slide demonstrates your iconic (visual) sensory memory at work!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50"/>
              </a:spcBef>
              <a:buClr>
                <a:srgbClr val="4f81b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Garamond"/>
              </a:rPr>
              <a:t>Keep your eyes fixed on the slide and concentrate!!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09:46:00Z</dcterms:created>
  <dc:creator>Vic Cobbold and Harry Cobbold</dc:creator>
  <dc:description>Content: Vic Cobbold
Design: Vic Cobbold and Harry Cobbold
Technical Features: Harry Cobbold</dc:description>
  <cp:keywords>Short Term Memory</cp:keywords>
  <dc:language>en-US</dc:language>
  <cp:lastModifiedBy>Elaina Barroso</cp:lastModifiedBy>
  <cp:lastPrinted>2017-10-20T15:48:07Z</cp:lastPrinted>
  <dcterms:modified xsi:type="dcterms:W3CDTF">2017-10-23T19:35:38Z</dcterms:modified>
  <cp:revision>110</cp:revision>
  <dc:subject>Capacity, Chunking and Coding</dc:subject>
  <dc:title>Short Term Memory</dc:title>
</cp:coreProperties>
</file>